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DD0-744A-415E-9970-87B46F7C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82ED-FB81-4426-9403-8A9EA3A4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418-756D-4DCF-9A39-2FC68461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AB9-97C5-45C7-8A2C-381B987D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8DA1-DE3F-4E23-B81F-48F57D7F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FA86-846A-4610-9099-F5D7D4FE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EA9-5CAC-48B3-AE4D-9D6052CA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C0C-D3A3-42BC-86DE-94859D5F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C7EC-3760-4D88-9066-604D4766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B682-93F0-464C-B389-E8D0E004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4409-A948-4259-980A-AFD745A5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A86-118F-4BDE-8409-21ED1EF0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8E27-064A-4DDD-9869-E7EB1672D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713120" cy="437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4354560" cy="1125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06240" y="2249640"/>
            <a:ext cx="207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4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0848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803840" cy="3218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82200" y="1335240"/>
            <a:ext cx="207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4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1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895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59240" y="2325600"/>
            <a:ext cx="18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4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3:58:27Z</dcterms:created>
  <dc:creator>School District U46</dc:creator>
  <dc:description/>
  <dc:language>en-US</dc:language>
  <cp:lastModifiedBy>School District U46</cp:lastModifiedBy>
  <dcterms:modified xsi:type="dcterms:W3CDTF">2011-04-29T13:58:43Z</dcterms:modified>
  <cp:revision>1</cp:revision>
  <dc:subject/>
  <dc:title>Great Society</dc:title>
</cp:coreProperties>
</file>